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AF2-333F-4DE7-8DBE-569DD1FB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468-341D-4A92-9EE0-D27E552A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B43-24CD-47B2-B9E4-A9E1CEA8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E18-0B7D-4FCD-B73B-780364D8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3A5-9128-4962-A1BE-321A841E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3C9-8EC8-4732-B38C-4532DB14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D4F-B38A-409A-BBFF-ED7D114C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FD2-3109-4999-8F02-0316BE93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D23-D0F5-4825-A1FA-5291876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37B-7BAA-454F-A2FA-8CF6C5B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D2E-792A-4D33-B0DC-E1AC3BDB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D34-613E-4AC8-9D71-AB51CC1D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0DC-5FCE-4B59-B810-1100849633A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9 Chcem spievať svojmu Pánov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pievať svojmu Pánov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rúcne piesne chvá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ma našiel, oslov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koj svoj m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jemu život zasvä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dnes už dobre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mnoho za mňa zaplat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ň nádejať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chváliť Pána Ježiš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 ňom šíriť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jemu patrí najvyšš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, vďaka, chvála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 jeho vzácna, nevin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ečnej spásy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ravda, Cesta jedi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áchranca je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pasiteľa veleb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áviť v každ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ako zbory na neb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znovu,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všetkých, čo ho milu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útočište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ým, čo v ňom sa radu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veniec slávy d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30:14Z</dcterms:modified>
  <cp:revision>21</cp:revision>
  <dc:subject/>
  <dc:title>Je veľký náš Pán, on slávy je Kráľ Nech do všetkých strán  spev vrúcnych znie chvál.</dc:title>
</cp:coreProperties>
</file>